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D677-412D-4692-9F64-501D9200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7C6B-B287-417F-8E66-9095716C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3C96-DA6C-4EB0-AA2E-5F72F1D3D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4B32-27C0-42D3-8F8A-28E2B645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197C-5D5C-440E-9F60-AFE4DA96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46B2-E25F-4765-ACDB-418E5E30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6C25-5420-4DE7-828B-8EE3B9A9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B610-F2F1-4F13-A1F5-669781D8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E53F-CDB8-44C2-BBAE-802B22E4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46B7-112B-41CA-8EDB-8B86E956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E3B5-E537-4C65-A14B-AD8C52F2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21F2-5867-449F-838F-C68F6BAA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BB6C-D33A-4ADF-B127-D60B46146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 Clase 6nh(601)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2 de febrer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36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continuamos el repaso para la prueba del lu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cribe una oración original con cada verb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mpe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rm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89913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- Complete with the appropriate wor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ndo empieza el segundo tiempo, los jugadores de futbol vuelven al 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equipo ___________ el partido y el otro equipo pier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el balon entra en la porteria, ___________ mete un gol y _________ un ta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un equipo de futbol hay once 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- Identif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MC900433692[1]"/>
          <p:cNvPicPr/>
          <p:nvPr/>
        </p:nvPicPr>
        <p:blipFill>
          <a:blip r:embed="rId1"/>
          <a:stretch/>
        </p:blipFill>
        <p:spPr>
          <a:xfrm>
            <a:off x="457200" y="914400"/>
            <a:ext cx="3033720" cy="3124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4648320" y="380880"/>
            <a:ext cx="3733560" cy="1938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3"/>
          <a:stretch/>
        </p:blipFill>
        <p:spPr>
          <a:xfrm>
            <a:off x="5524560" y="333360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4"/>
          <a:stretch/>
        </p:blipFill>
        <p:spPr>
          <a:xfrm>
            <a:off x="1066680" y="4648320"/>
            <a:ext cx="2743200" cy="1666800"/>
          </a:xfrm>
          <a:prstGeom prst="rect">
            <a:avLst/>
          </a:prstGeom>
          <a:ln w="0">
            <a:noFill/>
          </a:ln>
        </p:spPr>
      </p:pic>
      <p:sp>
        <p:nvSpPr>
          <p:cNvPr id="50" name="Line 9"/>
          <p:cNvSpPr/>
          <p:nvPr/>
        </p:nvSpPr>
        <p:spPr>
          <a:xfrm>
            <a:off x="1371600" y="38098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>
            <a:off x="251460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 flipV="1">
            <a:off x="2819520" y="12952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 flipH="1" flipV="1">
            <a:off x="685440" y="220932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2209680" y="3886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4"/>
          <p:cNvSpPr/>
          <p:nvPr/>
        </p:nvSpPr>
        <p:spPr>
          <a:xfrm>
            <a:off x="1371600" y="2895480"/>
            <a:ext cx="38088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 flipH="1">
            <a:off x="609120" y="3276720"/>
            <a:ext cx="83844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0"/>
          <p:cNvSpPr/>
          <p:nvPr/>
        </p:nvSpPr>
        <p:spPr>
          <a:xfrm flipH="1">
            <a:off x="525744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31"/>
          <p:cNvSpPr/>
          <p:nvPr/>
        </p:nvSpPr>
        <p:spPr>
          <a:xfrm>
            <a:off x="152280" y="838080"/>
            <a:ext cx="3505320" cy="3581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2"/>
          <p:cNvSpPr/>
          <p:nvPr/>
        </p:nvSpPr>
        <p:spPr>
          <a:xfrm flipV="1">
            <a:off x="2286000" y="533520"/>
            <a:ext cx="30492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4582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- Complete with the appropriate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_______________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, queremos ir al part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¿_______________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riero jugar, no estudi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¿_______________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ezamos a jugar a las o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¿_______________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quiero jugar con el equi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V- Conjug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52280" y="914400"/>
          <a:ext cx="6858000" cy="2590920"/>
        </p:xfrm>
        <a:graphic>
          <a:graphicData uri="http://schemas.openxmlformats.org/drawingml/2006/table">
            <a:tbl>
              <a:tblPr/>
              <a:tblGrid>
                <a:gridCol w="1192320"/>
                <a:gridCol w="1789200"/>
                <a:gridCol w="2043000"/>
                <a:gridCol w="1833480"/>
              </a:tblGrid>
              <a:tr h="647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er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676520" y="3809880"/>
          <a:ext cx="6705360" cy="2667240"/>
        </p:xfrm>
        <a:graphic>
          <a:graphicData uri="http://schemas.openxmlformats.org/drawingml/2006/table">
            <a:tbl>
              <a:tblPr/>
              <a:tblGrid>
                <a:gridCol w="1166760"/>
                <a:gridCol w="1747800"/>
                <a:gridCol w="1819080"/>
                <a:gridCol w="1971720"/>
              </a:tblGrid>
              <a:tr h="666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refer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for Quiz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bul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c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E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16:41:08Z</dcterms:created>
  <dc:creator>Helen Zumaeta</dc:creator>
  <dc:description/>
  <dc:language>en-US</dc:language>
  <cp:lastModifiedBy>Helen Zumaeta</cp:lastModifiedBy>
  <dcterms:modified xsi:type="dcterms:W3CDTF">2013-02-11T20:51:12Z</dcterms:modified>
  <cp:revision>14</cp:revision>
  <dc:subject/>
  <dc:title>Me llamo _________ Clase 6nh/il La fecha es el 4 de mayo del 2011</dc:title>
</cp:coreProperties>
</file>